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CD4-7D9F-4467-A18D-0F7CF9DB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7CE-9B10-44F2-B64E-D05C365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E7B-5B8A-4EAB-9842-2A7BF0CF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C5A-246C-4621-905B-FAFD98C2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757-9315-4529-BD17-D20CCE07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172-7FD4-4AB6-A967-42156C2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8BE-8740-43A6-A1B9-7EE22688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20E-2DDB-46BB-9CC4-9FDD5C0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20C-2E8A-467C-B895-396E1B23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079-0103-43C3-8572-00B5739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387-CE55-4E7B-BB29-D41D998B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FDA-DE04-4E36-B27F-6877F0B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792-A093-4D8A-996B-31FE5863F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astern Woodlands Indi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733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0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54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616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57240" y="202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0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4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248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34934" r="0" b="0"/>
          <a:stretch/>
        </p:blipFill>
        <p:spPr>
          <a:xfrm>
            <a:off x="404640" y="2590920"/>
            <a:ext cx="8334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32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96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11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1076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2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92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148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00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191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4336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97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574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96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57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23261" r="0" b="-19086"/>
          <a:stretch/>
        </p:blipFill>
        <p:spPr>
          <a:xfrm>
            <a:off x="1752480" y="2895480"/>
            <a:ext cx="562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63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252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396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7776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003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433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828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204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97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4880" y="129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5114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1680" y="1793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60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132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35120" y="182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36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96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52480" y="2514600"/>
            <a:ext cx="4724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53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3352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1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6828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5864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416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83400" y="2133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18:32Z</dcterms:modified>
  <cp:revision>20</cp:revision>
  <dc:subject/>
  <dc:title>No Slide Title</dc:title>
</cp:coreProperties>
</file>